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40078"/>
        <c:axId val="21112545"/>
      </c:barChart>
      <c:catAx>
        <c:axId val="55400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112545"/>
        <c:crosses val="autoZero"/>
        <c:auto val="1"/>
        <c:lblAlgn val="ctr"/>
        <c:lblOffset val="100"/>
        <c:noMultiLvlLbl val="0"/>
      </c:catAx>
      <c:valAx>
        <c:axId val="211125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400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746D-A704-46BF-8292-017336203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EF4D-03AD-4394-9B92-36B4D2C29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86E5-7CBF-40F2-8385-1AF7CC954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9D5F-8056-47CB-ABDA-17FB45F92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7E2C-E95E-4963-8B18-1C933149B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D8B7-B1F1-462A-8B6B-50C618027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1F27-C7B6-4598-BDB4-8CC35DE3D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5C56-15BD-48C3-B5C1-13E5D059C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09A6-5464-4E0D-ABA1-BF0A19C81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CDE9-F223-4879-AB20-BCBC8470C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47E8-3DA4-4C3B-983F-0CA5CB8AE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2BEF-ACE1-4B08-ABC6-0B9FB2E40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F3482F-C387-46BA-9FDF-E1D11B1C9BB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