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69248"/>
        <c:axId val="30880997"/>
      </c:barChart>
      <c:catAx>
        <c:axId val="791692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80997"/>
        <c:crosses val="autoZero"/>
        <c:auto val="1"/>
        <c:lblAlgn val="ctr"/>
        <c:lblOffset val="100"/>
        <c:noMultiLvlLbl val="0"/>
      </c:catAx>
      <c:valAx>
        <c:axId val="30880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692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CB6-1A61-479A-898D-60868B3C2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F1D-C918-4CEE-A3BF-F47937571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8B5D-068D-4415-BBF2-38BD83FD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B49-4973-45DB-83C2-BB3A7C09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ED07-B5F6-4F2E-99B6-E9C270F1A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6AE6-F0E0-4946-B4FA-9F8D7F5F8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5067-7A1F-415E-9391-A549B38C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35BD-7B27-4901-B401-D3815569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B405-AFF4-49AA-8751-4CCCD4A1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85D1-1E9B-4C7E-9132-63D0764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1FB-BFB2-40E8-B182-71169D565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9833-9507-437A-B8CC-8EDDDFF5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09C72A-A115-4E35-ABDD-ED60F6659E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