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16428"/>
        <c:axId val="10972269"/>
      </c:barChart>
      <c:catAx>
        <c:axId val="69116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72269"/>
        <c:crosses val="autoZero"/>
        <c:auto val="1"/>
        <c:lblAlgn val="ctr"/>
        <c:lblOffset val="100"/>
        <c:noMultiLvlLbl val="0"/>
      </c:catAx>
      <c:valAx>
        <c:axId val="10972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16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A73-9003-40CD-843C-46ED8DA8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6D3-ECC1-4D64-A3F7-4698AECC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813-1672-43F6-A235-3685F9D3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92C-CB2B-4A52-9C1F-D8949345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A77-8F9B-4373-9083-C030AC3B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0F5-EDA9-448A-9E2C-7B6FF031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D48-1D72-4B34-9772-2D217148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045-C58E-4079-B8DD-CD02B88F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847-288B-461A-A454-2BEA2A78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337-E6DA-46A8-A9A2-6D5F25F4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CCA-B960-4B51-B5B3-AB963E0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FC3-B939-4BA4-8AE4-938A2AA7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7C7CE-2A2F-458D-B919-D72C0EBC54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