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06318"/>
        <c:axId val="77450712"/>
      </c:barChart>
      <c:catAx>
        <c:axId val="11806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50712"/>
        <c:crosses val="autoZero"/>
        <c:auto val="1"/>
        <c:lblAlgn val="ctr"/>
        <c:lblOffset val="100"/>
        <c:noMultiLvlLbl val="0"/>
      </c:catAx>
      <c:valAx>
        <c:axId val="77450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06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A42-A768-4746-9ED5-5EC749DD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9E8-7C07-4178-BF48-C6F32514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A6B-8642-4A1F-A5D1-6AA099D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C3D-04AF-4143-A977-CB7B4585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07E-531A-40CD-83BE-0F3032F1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B6E-E3D6-4ED9-B588-E426972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4B9-B768-4094-A742-A5B643DA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235-3394-4686-9388-0D6AD13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986-C279-4033-9F41-EF579332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916-476D-4F6B-8751-294FE46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5CB-B230-4AFF-87C8-661C81F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9E1-A17D-4361-AEF0-83A735A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5B30C-D1E0-4741-9ABB-6334B4FCE4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