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090878"/>
        <c:axId val="3591514"/>
      </c:barChart>
      <c:catAx>
        <c:axId val="720908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91514"/>
        <c:crosses val="autoZero"/>
        <c:auto val="1"/>
        <c:lblAlgn val="ctr"/>
        <c:lblOffset val="100"/>
        <c:noMultiLvlLbl val="0"/>
      </c:catAx>
      <c:valAx>
        <c:axId val="35915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908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09F8-3660-442F-AFFA-EB2455102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E072-EB73-4333-8DBD-5D664368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939E-2227-4E9B-B630-3E27F3E9A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E682-FEA1-4F48-8753-8938101BA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C2BB-31ED-4654-8974-4D76789A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7332-1594-4964-A04D-D880BF6A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49B7-36EF-43BA-AE7C-488D977C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83A7-43C5-4012-8DA3-6653AF93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9485-90AA-4FB0-9520-58AF8ECF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A5EB-0168-4CFB-85F0-08674233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C4B1-6932-404C-A48D-FF6C4472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C9A3-A4AA-42C7-9958-3B540E8F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E6221-B497-4250-AE14-68B9F1421B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