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28558"/>
        <c:axId val="22602873"/>
      </c:barChart>
      <c:catAx>
        <c:axId val="96528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2873"/>
        <c:crosses val="autoZero"/>
        <c:auto val="1"/>
        <c:lblAlgn val="ctr"/>
        <c:lblOffset val="100"/>
        <c:noMultiLvlLbl val="0"/>
      </c:catAx>
      <c:valAx>
        <c:axId val="22602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8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8D6-C726-4274-9F36-FF8BCFBA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81F-6BC7-45F8-80AA-1BEA51A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D54-82B6-4E03-87A5-9FE3BC08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44F-6F07-4BB0-A056-13ED651C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99F-742B-46E0-B4D1-4A83EE1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C78-C170-422A-93AC-34754965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E18-72EE-4CFA-AA3B-1E0CF26D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EDE-1AAD-4C28-9847-1B7B5D7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F26-80B9-4A78-8882-7DD3F24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0BE-4A79-48F0-9B8A-E453DE1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7AA-6858-4835-A9D3-F6F6B6E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1B3-EC12-461E-A510-498DA04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A0D84-C1B2-42E5-8703-0BBBCA296A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