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164"/>
        <c:axId val="53637588"/>
      </c:barChart>
      <c:catAx>
        <c:axId val="730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7588"/>
        <c:crosses val="autoZero"/>
        <c:auto val="1"/>
        <c:lblAlgn val="ctr"/>
        <c:lblOffset val="100"/>
        <c:noMultiLvlLbl val="0"/>
      </c:catAx>
      <c:valAx>
        <c:axId val="53637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A24-5D7C-4A9E-B72E-6A0ECF21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94A-B5F5-4FB6-B409-9DBA105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389-8ED3-4500-976E-EB44DDC8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C03-B613-435F-ACE1-C71403E6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AC2-906B-420C-9AC2-EEF9A53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BEF-B49E-4E8B-BC4B-CE783277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D84-3112-42AE-9242-BA8A440F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7C1-9033-4373-BF49-A40EF216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AD4-F4AB-4604-BED3-3FBFDAE2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18E-1FE1-4306-94E6-BF5BFDD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EF5-5A36-4BB0-A101-59C04CE1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420-C39B-4434-92E7-4FC6CB5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EEDC-6B7C-4D87-BBD6-A5A62F695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