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151613"/>
        <c:axId val="53258866"/>
      </c:barChart>
      <c:catAx>
        <c:axId val="681516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58866"/>
        <c:crosses val="autoZero"/>
        <c:auto val="1"/>
        <c:lblAlgn val="ctr"/>
        <c:lblOffset val="100"/>
        <c:noMultiLvlLbl val="0"/>
      </c:catAx>
      <c:valAx>
        <c:axId val="532588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516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0430-24C5-46EA-B9ED-C852199E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1B9B-1843-491C-AF3E-0F411FC2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F098-1C67-4939-8BFD-3E7DBF5A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3AB2-3ABB-46F1-BDA2-31069E90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757E-C68D-465A-9E25-D47BAA74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5AA8-14BC-45C9-AE38-3EFAB3CB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EA6F-477E-464F-92A4-03026F31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BF72-27BA-4472-B121-D643887E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28B4-4020-4B4F-970D-278F086F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F968-4B1E-448E-BE9E-52D3513E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FC40-2AA8-41E9-A321-C951AE65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C5DF-72F8-4131-9DA1-902E22AB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11E58-6517-4916-8B6D-E5AE3F5A00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