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591690"/>
        <c:axId val="82793202"/>
      </c:barChart>
      <c:catAx>
        <c:axId val="865916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793202"/>
        <c:crosses val="autoZero"/>
        <c:auto val="1"/>
        <c:lblAlgn val="ctr"/>
        <c:lblOffset val="100"/>
        <c:noMultiLvlLbl val="0"/>
      </c:catAx>
      <c:valAx>
        <c:axId val="827932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5916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B237-20B6-4797-92EF-42B12F680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A529-58F1-4F3F-9188-52861F208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BA21-F1D8-4B4F-B5C9-2A4056B88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7B31-9786-4BE7-913C-7472C41B2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11DC-D76D-4644-A6F1-33F99F541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BB5B-86BB-40DB-94C1-9AC4D625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6CF8-A2E5-4D62-B0D1-114969FD2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0A05-7E17-4FA4-98C9-601EC7FF6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F8A2-70E3-4E0E-A6E8-F66086371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2D4F-314D-4BDA-941B-1ED36D10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E536-6957-4807-8B50-A82F2EFD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5F8B-95F6-497A-95BE-81393E08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700100-4986-4B31-9595-7A7B349589A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