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83782"/>
        <c:axId val="5682409"/>
      </c:barChart>
      <c:catAx>
        <c:axId val="52083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409"/>
        <c:crosses val="autoZero"/>
        <c:auto val="1"/>
        <c:lblAlgn val="ctr"/>
        <c:lblOffset val="100"/>
        <c:noMultiLvlLbl val="0"/>
      </c:catAx>
      <c:valAx>
        <c:axId val="5682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83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EAA-D23C-4AED-A79B-256C57A9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C82-4648-4C84-9808-57FEEF16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5C9-64A4-480A-97D7-159D3C4C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54A-A8BC-4551-A5C1-BB0682A8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5E4-5FA7-4A02-986C-1B33934E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10C-F3F6-4E70-9AFF-D1FEB87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568-0B2D-4E7D-8F87-B501F35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FF7-830A-4DBE-8C69-FBCBCA9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BD5-7224-4F68-A99D-81493CBC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874-CAF9-4FF7-B758-CFD903C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010-E2C0-45B1-82A7-28A8FD2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64F-540E-46E9-A06F-446C066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508F9-38FC-481F-AF3C-0651BBA87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