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7665"/>
        <c:axId val="31387254"/>
      </c:barChart>
      <c:catAx>
        <c:axId val="4247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7254"/>
        <c:crosses val="autoZero"/>
        <c:auto val="1"/>
        <c:lblAlgn val="ctr"/>
        <c:lblOffset val="100"/>
        <c:noMultiLvlLbl val="0"/>
      </c:catAx>
      <c:valAx>
        <c:axId val="31387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C74-0F6B-4FA8-AC2F-41490846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4C0-94D0-4905-A342-2282F5A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075-E00A-496E-9C0B-D65E4F4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434-9554-459D-B47C-7C89C414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790-391A-472F-942A-02113E4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E81-D680-4E7B-824F-3CB21768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599-60D4-41CB-B485-6A61FC3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3BE-0D41-4CBF-95D6-67B15B18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AC1-AA1F-4F91-83A2-4DF16597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B69-A359-4237-A47A-944A005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B9A-0D8A-4376-9F48-3BF637A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D8E-FE93-4FA2-B7E8-A8645C9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7539-FF68-4F1A-8FFC-80141512F0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