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12560" y="1026720"/>
            <a:ext cx="493236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more on the no connection limit experiment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results for increased churn are in the 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having found no clustering, and therefore no small-world, we attempt to introduce clus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client modifications are impossible due to the vast number of different clients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we have 4 major results from these experiments, the first is that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efficiency is hard to define and mea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there are too many possible configurations to test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Al-Hamra demonstrated clustering vis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Legout demonstrated clustering visually and using their own defined 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BitTorrent downloads form 4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Connection network is a superset of the oth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860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3944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860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5776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78920" y="536400"/>
            <a:ext cx="8604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860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3944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860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5776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78920" y="536400"/>
            <a:ext cx="8604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4860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3944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4860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55776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78920" y="536400"/>
            <a:ext cx="8604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64860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73944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64860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55776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178920" y="536400"/>
            <a:ext cx="8604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8920" y="536400"/>
            <a:ext cx="8604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64860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73944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64860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55776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78920" y="536400"/>
            <a:ext cx="8604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64860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73944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64860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55776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178920" y="536400"/>
            <a:ext cx="8604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64860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73944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64860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55776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10076040" cy="360360"/>
          </a:xfrm>
          <a:prstGeom prst="roundRect">
            <a:avLst>
              <a:gd name="adj" fmla="val 44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ntroduction    Opportunity    Difficulties    Solution    Implementation    Discu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7199280"/>
            <a:ext cx="10076040" cy="360360"/>
          </a:xfrm>
          <a:prstGeom prst="roundRect">
            <a:avLst>
              <a:gd name="adj" fmla="val 44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t-p2p: A Peer-to-Peer Distribution System for Software Package Releases and Upd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199280"/>
            <a:ext cx="10076040" cy="360360"/>
          </a:xfrm>
          <a:prstGeom prst="roundRect">
            <a:avLst>
              <a:gd name="adj" fmla="val 44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t-p2p: A Peer-to-Peer Distribution System for Software Package Releases and Upd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10076040" cy="360360"/>
          </a:xfrm>
          <a:prstGeom prst="roundRect">
            <a:avLst>
              <a:gd name="adj" fmla="val 44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tion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   Opportunity    Difficulties    Solution    Implementation    Discu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7199280"/>
            <a:ext cx="10076040" cy="360360"/>
          </a:xfrm>
          <a:prstGeom prst="roundRect">
            <a:avLst>
              <a:gd name="adj" fmla="val 44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t-p2p: A Peer-to-Peer Distribution System for Software Package Releases and Upd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10076040" cy="360360"/>
          </a:xfrm>
          <a:prstGeom prst="roundRect">
            <a:avLst>
              <a:gd name="adj" fmla="val 44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ntroduction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portunity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   Difficulties    Solution    Implementation    Discu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7199280"/>
            <a:ext cx="10076040" cy="360360"/>
          </a:xfrm>
          <a:prstGeom prst="roundRect">
            <a:avLst>
              <a:gd name="adj" fmla="val 44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t-p2p: A Peer-to-Peer Distribution System for Software Package Releases and Upd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10076040" cy="360360"/>
          </a:xfrm>
          <a:prstGeom prst="roundRect">
            <a:avLst>
              <a:gd name="adj" fmla="val 44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ntroduction    Opportunity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iculties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   Solution    Implementation    Discu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7199280"/>
            <a:ext cx="10076040" cy="360360"/>
          </a:xfrm>
          <a:prstGeom prst="roundRect">
            <a:avLst>
              <a:gd name="adj" fmla="val 44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t-p2p: A Peer-to-Peer Distribution System for Software Package Releases and Upd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10076040" cy="360360"/>
          </a:xfrm>
          <a:prstGeom prst="roundRect">
            <a:avLst>
              <a:gd name="adj" fmla="val 44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ntroduction    Opportunity    Difficulties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   Implementation    Discu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7199280"/>
            <a:ext cx="10076040" cy="360360"/>
          </a:xfrm>
          <a:prstGeom prst="roundRect">
            <a:avLst>
              <a:gd name="adj" fmla="val 44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t-p2p: A Peer-to-Peer Distribution System for Software Package Releases and Upd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10076040" cy="360360"/>
          </a:xfrm>
          <a:prstGeom prst="roundRect">
            <a:avLst>
              <a:gd name="adj" fmla="val 44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ntroduction    Opportunity    Difficulties    Solution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ation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   Discu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8920" y="53640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7199280"/>
            <a:ext cx="10076040" cy="360360"/>
          </a:xfrm>
          <a:prstGeom prst="roundRect">
            <a:avLst>
              <a:gd name="adj" fmla="val 44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t-p2p: A Peer-to-Peer Distribution System for Software Package Releases and Upd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0"/>
            <a:ext cx="10076040" cy="360360"/>
          </a:xfrm>
          <a:prstGeom prst="roundRect">
            <a:avLst>
              <a:gd name="adj" fmla="val 44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ntroduction    Opportunity    Difficulties    Solution    Implementation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merond@cs.sfu.ca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mailto:camerond@cs.sfu.ca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27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78920" y="536040"/>
            <a:ext cx="9720360" cy="21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Courier New"/>
              </a:rPr>
              <a:t>apt-p2p</a:t>
            </a: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: A Peer-to-Peer Distribution System for Software Package Releases and Updates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39280" y="2700000"/>
            <a:ext cx="8999640" cy="41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mincho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Cameron Dale, Jiangchuan Li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mincho"/>
              </a:rPr>
              <a:t>presented b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Cameron D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Burnaby, BC, C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ea typeface="msmincho"/>
                <a:hlinkClick r:id="rId1"/>
              </a:rPr>
              <a:t>camerond@cs.sfu.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mincho"/>
              </a:rPr>
              <a:t>INFOCOM, April 22</a:t>
            </a:r>
            <a:r>
              <a:rPr b="0" i="1" lang="en-US" sz="2000" spc="-1" strike="noStrike" baseline="33000">
                <a:solidFill>
                  <a:srgbClr val="000000"/>
                </a:solidFill>
                <a:latin typeface="Times New Roman"/>
                <a:ea typeface="msmincho"/>
              </a:rPr>
              <a:t>n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mincho"/>
              </a:rPr>
              <a:t>, 2009, Rio de Janeiro, Braz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78920" y="536040"/>
            <a:ext cx="860580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Peer-to-Peer Assisted Solution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0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arent proxy between the user and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sts for packages are first searched for in an indexing structure (DHT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the existing server as a seed for the packages in the P2P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Bef>
                <a:spcPts val="850"/>
              </a:spcBef>
              <a:buClr>
                <a:srgbClr val="00008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ages not found by P2P means can be downloaded from the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ser then becomes a source of the package in the P2P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78920" y="536040"/>
            <a:ext cx="860580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Proxy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requests to the server from the user (1) are proxied by the p2p program (2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s (3) that contain hashes are cached for future look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files are returned to the user (4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724360" y="503280"/>
            <a:ext cx="2222640" cy="147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78920" y="536040"/>
            <a:ext cx="860580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DHT Request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5724360" y="503280"/>
            <a:ext cx="4178520" cy="184140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42680" y="259236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sts for packages (5) trigger a lookup of the package's hash (6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ash will be looked up in the P2P indexing structure (DHT) (7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Bef>
                <a:spcPts val="850"/>
              </a:spcBef>
              <a:buClr>
                <a:srgbClr val="00008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ers that have the package are returned (8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ly, hashes of pieces (chunks) of the package are looked up in the DHT (9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Bef>
                <a:spcPts val="850"/>
              </a:spcBef>
              <a:buClr>
                <a:srgbClr val="00008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hes of pieces of the package are returned (1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8920" y="536040"/>
            <a:ext cx="860580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Package Download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5722920" y="539640"/>
            <a:ext cx="4178160" cy="23115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20360" y="306072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ckage is downloaded from peers (11/12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Bef>
                <a:spcPts val="850"/>
              </a:spcBef>
              <a:buClr>
                <a:srgbClr val="00008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eers can not be found, the package is downloaded from the server (11/12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ckage is hash checked (13) and returned to the user (14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ser's location is stored in the DHT as a new source for the package (15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78920" y="536040"/>
            <a:ext cx="860580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Notes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st of a package is always guaranteed, whether downloaded from peers or a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ximize downloading bandwidth, large packages are split into pieces (with hashe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rse interest in a constantly updated set of files (hashes) is perfect for a D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it simple: e.g. use the same protocol for peers as the server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79280" y="536040"/>
            <a:ext cx="918072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Debian Implementation: </a:t>
            </a:r>
            <a:r>
              <a:rPr b="1" lang="en-US" sz="4400" spc="-1" strike="noStrike">
                <a:solidFill>
                  <a:srgbClr val="000080"/>
                </a:solidFill>
                <a:latin typeface="Courier New"/>
              </a:rPr>
              <a:t>apt-p2p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hing HTTP pro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ers are also HTTP servers to other p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/1.1 is used for downloading of pieces and pipelining of multiple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xing system is a DHT based on Kadem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hes of pieces of packages are also stored in the D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78920" y="536040"/>
            <a:ext cx="860580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Piece Hashes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12KB size pi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8% of packages are a single pie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4 piece hashes are stored with the list of peers in the DHT (14% of package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-69 pieces are stored separately in the DHT (7% of package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+ pieces are served by HTTP requests to the peer (less than 1% of package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78920" y="536040"/>
            <a:ext cx="860580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Implementation Availability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9787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 code is available under the terms of the GNU General Public License (GPL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Bef>
                <a:spcPts val="850"/>
              </a:spcBef>
              <a:buClr>
                <a:srgbClr val="00008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distributors can modify it to suit thei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le in the main archives of Debian and Ubuntu for easy installation by al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d recently in a Slashdot 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Bef>
                <a:spcPts val="850"/>
              </a:spcBef>
              <a:buClr>
                <a:srgbClr val="00008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slashdot.org/article.pl?sid=09/04/12/02322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79280" y="536040"/>
            <a:ext cx="918072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Peer Lifetimes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 gathered by “walking” the D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6 users in 2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ers stay online longer than in other similar P2P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Bef>
                <a:spcPts val="850"/>
              </a:spcBef>
              <a:buClr>
                <a:srgbClr val="00008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being installed as a system dae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% of connections last longer than 5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% of peers will remain online another h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Bef>
                <a:spcPts val="850"/>
              </a:spcBef>
              <a:buClr>
                <a:srgbClr val="00008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passes Kademlia design principle of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78920" y="536040"/>
            <a:ext cx="860580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Peer Downloads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are not required to share downloa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 unique users in 16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ers downloaded 15 GB from other p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% of their downloads are from p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ing the mirror network 1GB per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78920" y="536040"/>
            <a:ext cx="860580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rtunity that i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ies encount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pt-p2p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78920" y="536040"/>
            <a:ext cx="860580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% of peers are firewalled or unable to be conta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age downloads are delayed by slow DHT look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Bef>
                <a:spcPts val="850"/>
              </a:spcBef>
              <a:buClr>
                <a:srgbClr val="00008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outs waiting for firewalled peers are a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Bef>
                <a:spcPts val="850"/>
              </a:spcBef>
              <a:buClr>
                <a:srgbClr val="00008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ts of work has been done, still more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78920" y="536040"/>
            <a:ext cx="860580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 DHT respons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Bef>
                <a:spcPts val="850"/>
              </a:spcBef>
              <a:buClr>
                <a:srgbClr val="00008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STUN to make more peers contac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Bef>
                <a:spcPts val="850"/>
              </a:spcBef>
              <a:buClr>
                <a:srgbClr val="00008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tuning of DHT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Bef>
                <a:spcPts val="850"/>
              </a:spcBef>
              <a:buClr>
                <a:srgbClr val="00008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le cache rem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Bef>
                <a:spcPts val="850"/>
              </a:spcBef>
              <a:buClr>
                <a:srgbClr val="00008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age delta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78920" y="536040"/>
            <a:ext cx="9720360" cy="21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Courier New"/>
              </a:rPr>
              <a:t>apt-p2p</a:t>
            </a: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: A Peer-to-Peer Distribution System for Software Package Releases and Updates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539280" y="2700000"/>
            <a:ext cx="8999640" cy="41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mincho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Cameron Dale, Jiangchuan Li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mincho"/>
              </a:rPr>
              <a:t>presented b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Cameron D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Burnaby, BC, C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ea typeface="msmincho"/>
                <a:hlinkClick r:id="rId1"/>
              </a:rPr>
              <a:t>camerond@cs.sfu.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mincho"/>
              </a:rPr>
              <a:t>INFOCOM, April 22</a:t>
            </a:r>
            <a:r>
              <a:rPr b="0" i="1" lang="en-US" sz="2000" spc="-1" strike="noStrike" baseline="33000">
                <a:solidFill>
                  <a:srgbClr val="000000"/>
                </a:solidFill>
                <a:latin typeface="Times New Roman"/>
                <a:ea typeface="msmincho"/>
              </a:rPr>
              <a:t>n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mincho"/>
              </a:rPr>
              <a:t>, 2009, Rio de Janeiro, Braz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280" y="536040"/>
            <a:ext cx="936000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Free Software Package Distribution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ly uses the client-server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are altruistic, willing to contrib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urrent mechanism for them to do 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507960" y="6221520"/>
            <a:ext cx="2013120" cy="6188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8459640" y="6008760"/>
            <a:ext cx="831960" cy="8316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4491000" y="5219640"/>
            <a:ext cx="1270080" cy="15620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617400" y="4937040"/>
            <a:ext cx="822600" cy="8222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6300720" y="6062760"/>
            <a:ext cx="1563840" cy="7761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8366040" y="4859280"/>
            <a:ext cx="814320" cy="7765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6256440" y="5219640"/>
            <a:ext cx="1663560" cy="5396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8265960" y="4157640"/>
            <a:ext cx="914400" cy="3430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9"/>
          <a:stretch/>
        </p:blipFill>
        <p:spPr>
          <a:xfrm>
            <a:off x="2367000" y="5219640"/>
            <a:ext cx="1233360" cy="39852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10"/>
          <a:stretch/>
        </p:blipFill>
        <p:spPr>
          <a:xfrm>
            <a:off x="2340000" y="4219560"/>
            <a:ext cx="1673280" cy="6397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1"/>
          <a:stretch/>
        </p:blipFill>
        <p:spPr>
          <a:xfrm>
            <a:off x="7199280" y="4248000"/>
            <a:ext cx="822240" cy="6130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12"/>
          <a:stretch/>
        </p:blipFill>
        <p:spPr>
          <a:xfrm>
            <a:off x="3060720" y="6072120"/>
            <a:ext cx="814320" cy="7682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13"/>
          <a:stretch/>
        </p:blipFill>
        <p:spPr>
          <a:xfrm>
            <a:off x="6016680" y="4500720"/>
            <a:ext cx="822240" cy="4935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14"/>
          <a:stretch/>
        </p:blipFill>
        <p:spPr>
          <a:xfrm>
            <a:off x="4576680" y="4140360"/>
            <a:ext cx="822240" cy="8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8920" y="536040"/>
            <a:ext cx="860580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Similarities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packages are all freely available in an archive on one or more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rver(s) is alway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yptographic hashes of the packages' files are available separately from the pac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ruistic peers exist willing to aid in the distribution of these pack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78920" y="536040"/>
            <a:ext cx="860580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Debian Linux Distribution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ages are downloaded and installed by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p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ve is served by a network of 300 mirrors  mostly donated to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ve servers are simple HTTP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on packages, including hashes, are contained in index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is maintained using GPG signing of index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78920" y="536040"/>
            <a:ext cx="860580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Archive Dimensions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 the packages are very small, but some are very l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Bef>
                <a:spcPts val="850"/>
              </a:spcBef>
              <a:buClr>
                <a:srgbClr val="00008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80% &lt; 512KB, some &gt; 100 M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oo many packages to distribute them individ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Bef>
                <a:spcPts val="850"/>
              </a:spcBef>
              <a:buClr>
                <a:srgbClr val="00008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22,298 pac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hole archive is too large to distribute in its entir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Bef>
                <a:spcPts val="850"/>
              </a:spcBef>
              <a:buClr>
                <a:srgbClr val="00008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116 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78920" y="536040"/>
            <a:ext cx="860580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Package Updates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ckages are constantly upd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rs, working independently around the world, do not synchronize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“stable” releases are updated with security fixes or serious bug fi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1.5% of Debian's package archive is updated every singl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78920" y="536040"/>
            <a:ext cx="860580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Limited Interest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sers interest in a specific package is mostly very lim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packages are optional or extra, and only of interest to a small number of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exacerbated by there being multiple versions of each packag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80% of Debian's packages are installed by less than 1% of its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78920" y="536040"/>
            <a:ext cx="860580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Why not BitTorrent?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for CD images, not entire updated software arch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ctures the downloading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Bef>
                <a:spcPts val="850"/>
              </a:spcBef>
              <a:buClr>
                <a:srgbClr val="00008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ivide the archive into torr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Bef>
                <a:spcPts val="850"/>
              </a:spcBef>
              <a:buClr>
                <a:srgbClr val="00008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ily updates create new torrents consta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80"/>
              </a:buClr>
              <a:buFont typeface="Times New Roman"/>
              <a:buChar char="●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piece sizes will cause unwanted parts of other packages to be downloa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Lilac title area and left border with three blue-green accent elements on left border, gray background</dc:description>
  <dc:language>en-US</dc:language>
  <cp:lastModifiedBy/>
  <cp:revision>0</cp:revision>
  <dc:subject/>
  <dc:title/>
</cp:coreProperties>
</file>