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70580"/>
        <c:axId val="71539077"/>
      </c:barChart>
      <c:catAx>
        <c:axId val="84070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9077"/>
        <c:crosses val="autoZero"/>
        <c:auto val="1"/>
        <c:lblAlgn val="ctr"/>
        <c:lblOffset val="100"/>
        <c:noMultiLvlLbl val="0"/>
      </c:catAx>
      <c:valAx>
        <c:axId val="71539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0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1A6-416F-4B4C-9E7F-059147BF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3F7-AA2D-4328-90C3-EBA7E18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2CA-D10D-492C-A13A-206C4ADF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937-9F7B-4C97-81A2-9999D930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E3B-030A-48EF-8EA5-D9E17FA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653-8BC0-4776-9D80-CAFE805A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FB2-B7DD-4C5D-B2F4-5236ACB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DA5-70B7-4FAE-90D4-F7A8587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B5F-0ADE-4DEF-BF7B-15BB5B2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E6B-4596-4524-B8D2-B387DE4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61D-0E0E-4952-B7D9-B97739D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DF4-452A-4C4F-B235-AF342E4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932D6-89B6-4B1C-9C72-CA92A69A6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