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60664"/>
        <c:axId val="96520319"/>
      </c:barChart>
      <c:catAx>
        <c:axId val="52960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0319"/>
        <c:crosses val="autoZero"/>
        <c:auto val="1"/>
        <c:lblAlgn val="ctr"/>
        <c:lblOffset val="100"/>
        <c:noMultiLvlLbl val="0"/>
      </c:catAx>
      <c:valAx>
        <c:axId val="96520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60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39D-DCE5-4FBD-BFF1-266635D4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669-538E-4F14-AAD8-4AFB5BF3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E50-5ABD-4FAB-AF3E-2A28F750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180-BCF1-48D7-8B21-6F2FBA2B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12A-14CB-438A-8EAE-9620ECD3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099-84F2-4B41-A0BD-17E06AB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9D5-2AFC-4B1A-889E-D15691B1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544-920A-4825-85DC-6D781D7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F25-7D6C-40D5-94B9-553A1007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C11-02E6-4353-8A9C-64759F0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3C7-37DA-41A4-BC39-57948C0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E21-CB25-4BC9-9684-4462C5C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8E089-311F-4EC7-BC60-7708BF7FF3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