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76665"/>
        <c:axId val="42990703"/>
      </c:barChart>
      <c:catAx>
        <c:axId val="74776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90703"/>
        <c:crosses val="autoZero"/>
        <c:auto val="1"/>
        <c:lblAlgn val="ctr"/>
        <c:lblOffset val="100"/>
        <c:noMultiLvlLbl val="0"/>
      </c:catAx>
      <c:valAx>
        <c:axId val="42990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76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3AA-535D-4715-9177-5A35C419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04C-4AF7-40D9-B712-035120BE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59D-7BCF-41DD-843C-C7FF70BF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FA7-A426-469F-BE30-ED9D31D1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77A-913E-4973-B097-09CE67F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30D-E3A6-4AC5-822D-62E851A3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779-B021-4F22-BC6A-89932563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D83-DCAF-42D8-AB37-7F8AA99B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D05-54F9-4A77-9540-675A98AA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23B-C882-4F27-9100-B2E7FCB2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62B-D969-4B99-B27E-147AD393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779-77EA-4C6F-944D-5E710CFF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78E5A-8DC7-44C1-9ADC-E781DF48F1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