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60762"/>
        <c:axId val="13925693"/>
      </c:barChart>
      <c:catAx>
        <c:axId val="294607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25693"/>
        <c:crosses val="autoZero"/>
        <c:auto val="1"/>
        <c:lblAlgn val="ctr"/>
        <c:lblOffset val="100"/>
        <c:noMultiLvlLbl val="0"/>
      </c:catAx>
      <c:valAx>
        <c:axId val="13925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607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CC8-52F9-4280-A4BC-F9DD757E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3B2-06B1-4D9E-BC79-797C6B12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EA82-3671-4FCD-B41B-3B2B0CE8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F34-7B6C-4BBF-B7C5-7B0DAB34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320B-12A7-4073-A450-854CC1C5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551E-28AE-48A8-AA6E-DC23BF95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F67-CB1A-4AE8-8E84-9C1FEE30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E10-0B32-40D6-AD88-9084ACCA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E66-6EE3-4792-AB0E-BCAB8004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E14C-0546-41E0-9543-EA328363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421-B23E-4442-AAEF-EABFBFF0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016-7E77-4006-95B5-8B8A0715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12299-66D3-450A-9B31-CCA58FC0B4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