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3615"/>
        <c:axId val="8518410"/>
      </c:barChart>
      <c:catAx>
        <c:axId val="7103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8410"/>
        <c:crosses val="autoZero"/>
        <c:auto val="1"/>
        <c:lblAlgn val="ctr"/>
        <c:lblOffset val="100"/>
        <c:noMultiLvlLbl val="0"/>
      </c:catAx>
      <c:valAx>
        <c:axId val="851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3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BFE-12DC-44A8-8270-CE6021E2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47E-B625-4311-A377-CC3D4A9E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A41-418A-4B41-8F15-EFE34A7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0A8-0E14-42A0-A597-05300E28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84E-3399-4E9F-8214-D3CD66D8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882-CC9C-4CB3-94FF-81AEF074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CC7-1DC9-41B4-81C6-04F7BCBD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3BE-C9E1-42BA-AD23-FDC2CAA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185-0C3F-4643-8BCC-B6BDA241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71E-4740-4911-BC35-D9F1361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830-2BBE-4FE5-BB2E-1DAE48B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B0C-4676-4A2F-8C77-C422001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92DB7-153A-4306-AC24-ADBFEC33F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