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8646"/>
        <c:axId val="67691312"/>
      </c:barChart>
      <c:catAx>
        <c:axId val="8108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91312"/>
        <c:crosses val="autoZero"/>
        <c:auto val="1"/>
        <c:lblAlgn val="ctr"/>
        <c:lblOffset val="100"/>
        <c:noMultiLvlLbl val="0"/>
      </c:catAx>
      <c:valAx>
        <c:axId val="67691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8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1CA-9D7C-4463-BEE6-522694E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7F3-65EB-4721-91DD-1E702E8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B9F-4B5F-4353-BFFD-F1513454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6EB-7F27-473A-90E0-0DF151CD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A75-74DA-4878-AACA-4A60182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1FB-A80C-4207-A9FC-E87253ED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9B5-51C3-40D7-9A11-C6D8CAEA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3DD-D293-4221-A56A-BED64E81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E05-26C6-4DFF-8E3A-B9A0271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A7E-D58D-4BA6-B61B-9D43C4C5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8633-FEB6-4020-A090-79C5B18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EAC-FA5C-4CA0-9495-1AFE5F7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30B3D-99AC-43C7-BE0C-BEC43E6F19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