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88240"/>
        <c:axId val="64399558"/>
      </c:barChart>
      <c:catAx>
        <c:axId val="92088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99558"/>
        <c:crosses val="autoZero"/>
        <c:auto val="1"/>
        <c:lblAlgn val="ctr"/>
        <c:lblOffset val="100"/>
        <c:noMultiLvlLbl val="0"/>
      </c:catAx>
      <c:valAx>
        <c:axId val="64399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88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6F5-D431-4005-AA29-6A3E5C01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931-9494-476D-8813-E842B00E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EC7-4A00-468E-8581-3A05C9B5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D6C-DA11-4E1C-A39E-E3EFAF0A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93B-D869-4F28-9212-04E1494D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353-F9C7-4845-A4A4-83E2E658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758-8C71-4B49-A2E9-8529928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641-5AF2-48F9-B885-19E1A51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7A3-1A44-4DC7-B1B4-003C7544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964-3553-4AB7-A54F-046017C4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141-4D3C-4DFA-84E7-7F6887E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DD7-D072-49A9-A581-D6929B79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F2CC7-886E-4FAF-A61A-F1016B46C9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