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0726"/>
        <c:axId val="48818445"/>
      </c:barChart>
      <c:catAx>
        <c:axId val="10007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818445"/>
        <c:crosses val="autoZero"/>
        <c:auto val="1"/>
        <c:lblAlgn val="ctr"/>
        <c:lblOffset val="100"/>
        <c:noMultiLvlLbl val="0"/>
      </c:catAx>
      <c:valAx>
        <c:axId val="4881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07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6BB3-4947-4967-8FA8-3039AEC52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BF4-2F26-4165-8D8C-6866E075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C175-DD69-4CE3-958D-F8E384E5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6EDF-98F5-4876-B188-EB82DB535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CC18-A45F-47AE-B16E-AA6828B0A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D03E-BAC0-42CB-8342-63ECB7191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04A7-6CD1-446A-B279-B43B1701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719-E45F-4D23-9BAF-37229CBAB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16E8-FB0F-4A2A-91E3-1CE4852C5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FAA2-C1EC-49DE-817C-6AC18AC4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89D-C7EF-4AC0-A5E7-1BA983711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86B-347C-4AB2-955F-B6D459595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954309-02F8-446B-85B1-A73D4057AC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