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41334"/>
        <c:axId val="11679748"/>
      </c:barChart>
      <c:catAx>
        <c:axId val="84741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79748"/>
        <c:crosses val="autoZero"/>
        <c:auto val="1"/>
        <c:lblAlgn val="ctr"/>
        <c:lblOffset val="100"/>
        <c:noMultiLvlLbl val="0"/>
      </c:catAx>
      <c:valAx>
        <c:axId val="11679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41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6D3-5FD6-4D8E-97E6-376BA9DA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E77-96D4-4A2B-BE79-B67E980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354-4C25-4036-9C53-ED208B01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05C-4586-401E-8D77-E29AB946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2F1-8AFB-47A2-BEB2-243CCE5D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22E-872D-453D-B78C-71CE22A5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2D9-D123-4046-B6F6-935C41C0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B52-C089-4F64-833B-F1998430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665-E0DB-4FD6-BE57-EC8C34FA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4B0-486D-48D2-9464-27DD6D6F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02A-4C08-453A-9D93-C061E5E4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5E8-683D-46B8-BE2F-1A858EE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AABEB-EA8D-4C6C-93D6-D93C2B2A3C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