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5907205"/>
        <c:axId val="34446320"/>
      </c:barChart>
      <c:catAx>
        <c:axId val="559072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446320"/>
        <c:crosses val="autoZero"/>
        <c:auto val="1"/>
        <c:lblAlgn val="ctr"/>
        <c:lblOffset val="100"/>
        <c:noMultiLvlLbl val="0"/>
      </c:catAx>
      <c:valAx>
        <c:axId val="3444632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072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7BAAC-634C-475E-B42A-E1C4052F3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B5E-2F8F-4119-8C91-B75901C21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ACFB-6BF1-4F4E-80F3-683D367A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0478F-1C1F-4E0B-8F55-E1CC27417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9CCE-C636-4F8A-AA8B-7CC98BDCB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68EF-CD00-4DA8-9A75-CD6B3001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D0C5-EE3A-4CF9-B1A3-4E26ED93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A024-9AA3-4D81-BAEC-07983A7F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97D24-3CE1-416A-B273-800A9B6A2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19E66-3F19-42FE-9AF0-06382AC2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D86C-7B18-4A72-920F-93C232AA1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B2D-0AB6-4CFC-9F1D-433FDF90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25F011-E623-4DA0-9163-D46AF7B2438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