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156667"/>
        <c:axId val="44676770"/>
      </c:barChart>
      <c:catAx>
        <c:axId val="981566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76770"/>
        <c:crosses val="autoZero"/>
        <c:auto val="1"/>
        <c:lblAlgn val="ctr"/>
        <c:lblOffset val="100"/>
        <c:noMultiLvlLbl val="0"/>
      </c:catAx>
      <c:valAx>
        <c:axId val="446767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566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4A4F-0775-47E1-94E0-A6374C7CE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7536-526A-427E-9DB4-AF729480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0D84-67BC-480E-A83F-E0BF08D4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9D39-F1C7-4D10-88E7-432BFFC99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B2FA-79AB-4B15-A8F4-2FC5F5CD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D657-8601-48BD-87FE-80910FD5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C80E-5A9F-43CE-90EE-6804D474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997B-5AEE-40EB-BCBE-EB605D88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A52C-C8BF-4159-9D4F-76D17DCD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832C-54D3-40FB-9C1F-1D2F0592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2829-321E-454C-ACB0-78E9E396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2140-1945-46A1-BAFA-E7E19EC1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5FBC2-D6AB-4FB9-8A9C-83FF2B3421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