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897758"/>
        <c:axId val="96385989"/>
      </c:barChart>
      <c:catAx>
        <c:axId val="598977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85989"/>
        <c:crosses val="autoZero"/>
        <c:auto val="1"/>
        <c:lblAlgn val="ctr"/>
        <c:lblOffset val="100"/>
        <c:noMultiLvlLbl val="0"/>
      </c:catAx>
      <c:valAx>
        <c:axId val="963859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977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E53D-2CC3-475A-998F-39100A7E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F157-B26E-4AC8-ABA4-F9CBFE7C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56F-2046-40DF-8D01-5D40064B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324-3F90-4998-A93E-6FA701FD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EE9-7D25-49B4-96CF-1652D3B3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E98B-3CC9-4790-9B9A-32B1FC8A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05EE-4E4E-41D3-9929-A7914BE8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DE0C-6776-47CA-9DC2-98A14BB7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D6F0-A741-47BE-A1B0-B78003F2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1A1-EFCA-490F-B25E-7FBBA1E6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D90-251D-4ADC-A0EF-57DEA773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011-6F53-4492-B6FA-2561479C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04401-F873-4466-BFC9-8EB4751289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