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24570"/>
        <c:axId val="35477942"/>
      </c:barChart>
      <c:catAx>
        <c:axId val="91424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77942"/>
        <c:crosses val="autoZero"/>
        <c:auto val="1"/>
        <c:lblAlgn val="ctr"/>
        <c:lblOffset val="100"/>
        <c:noMultiLvlLbl val="0"/>
      </c:catAx>
      <c:valAx>
        <c:axId val="35477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24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688-5610-4516-B14F-3CD14040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2F1-375E-4F10-90B5-E9835C40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04C-06DF-4DF0-856C-9F290720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837-57ED-4A9D-8A70-DA24CCB3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DFE-3035-493E-9BC2-4DB9F593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FA5-A760-46C0-BA5A-6B50F2C5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931-7FE1-4D27-9427-760AB265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CFA-6915-41FD-9543-F59FD3F6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9EE-E3CF-49DB-9F6B-925D0F48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5C4-1851-49BD-AC14-A2C983F3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25C-3CF0-45A3-800E-74D1D183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8B9-4AB9-4884-A67D-7B066845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1CD71-6AF8-4415-806A-A1ED34702E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