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8825"/>
        <c:axId val="55457592"/>
      </c:barChart>
      <c:catAx>
        <c:axId val="5398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57592"/>
        <c:crosses val="autoZero"/>
        <c:auto val="1"/>
        <c:lblAlgn val="ctr"/>
        <c:lblOffset val="100"/>
        <c:noMultiLvlLbl val="0"/>
      </c:catAx>
      <c:valAx>
        <c:axId val="55457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8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97AF-5A7B-480A-AB06-D88BFFED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C66-488A-413B-871E-86919229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359-254A-41FD-8153-8F1A89EE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F0B-60AA-44C7-A8A5-539CE88E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334-175D-41F3-8D70-E3DFB5A7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487-830F-48C7-97A4-CF8905B7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6913-3E46-4A75-9C8B-567754D8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40B-6D1D-4B6A-9FB2-0C33E584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830-B7B5-439D-909E-D1571458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B66-D10F-41E6-A82F-E7678E9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596-C722-44E3-907F-FA0D42DC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6B9-2490-4DCC-8B32-DE8D933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A0D11-6923-49BC-A1AA-6BE02E2C2C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