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1465810"/>
        <c:axId val="8049780"/>
      </c:barChart>
      <c:catAx>
        <c:axId val="4146581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049780"/>
        <c:crosses val="autoZero"/>
        <c:auto val="1"/>
        <c:lblAlgn val="ctr"/>
        <c:lblOffset val="100"/>
        <c:noMultiLvlLbl val="0"/>
      </c:catAx>
      <c:valAx>
        <c:axId val="804978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146581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DE49F-B2B7-4A99-9F46-0A21FF3C5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EB873-F092-4453-94E2-42BDC77BD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DA635-E114-4DAC-88AF-8184C0087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BBC81-10B6-4154-852B-97E5D754D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81153-F0F8-4AAA-93C3-9527E3865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FC8F9-78F6-40E1-A235-5EFFC5F15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847EF-EB5C-4E16-A8C0-B9F769630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DF7B9-C7D4-422E-B77D-7BC937D01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E2FE8-39B6-4408-B08A-8891F4345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B0BDD-F110-4C39-9B82-8CE4A127A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0D28D-D7F7-4B6D-B769-954CEA869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FCC7D-BC62-42E0-A81F-70B2E94A0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B68982-EF01-4F3B-8388-B24BD37B688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