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89604"/>
        <c:axId val="11555618"/>
      </c:barChart>
      <c:catAx>
        <c:axId val="46589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55618"/>
        <c:crosses val="autoZero"/>
        <c:auto val="1"/>
        <c:lblAlgn val="ctr"/>
        <c:lblOffset val="100"/>
        <c:noMultiLvlLbl val="0"/>
      </c:catAx>
      <c:valAx>
        <c:axId val="11555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9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C4E-8770-445B-BB04-1DE58EE9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DFE-722F-4D7E-9240-06AD7564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206-F1DC-4367-A5FC-D6BE45A3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514-C2F7-4BE5-B0C1-CB5D003A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4DE-2CAE-44FD-84A9-6F66121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FA2-B6C3-4B40-9AE3-1327A1F1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C43-DC1A-4791-8A96-D2406E7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515-7772-4FE5-8689-DF2881A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C4F-A39F-4B7B-AB70-C0BDD414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ADC-1464-4BBC-AA78-A73B9A4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FD9-92AF-4DAD-B2A4-6CE0396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B0D-5709-4C09-8AB9-1128FEB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5FF3-A454-43A5-98BC-119C6F29B6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