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9610"/>
        <c:axId val="63186699"/>
      </c:barChart>
      <c:catAx>
        <c:axId val="71549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6699"/>
        <c:crosses val="autoZero"/>
        <c:auto val="1"/>
        <c:lblAlgn val="ctr"/>
        <c:lblOffset val="100"/>
        <c:noMultiLvlLbl val="0"/>
      </c:catAx>
      <c:valAx>
        <c:axId val="6318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9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081-B8F4-4AA3-9785-2979ABFE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F6C-A910-4A9D-A21D-E23FC1D6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21D-A1CA-4F48-A3B2-01E0F743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55B-6C58-4126-ADAF-69E4B2D1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343-9516-4E77-9958-E6ACDA6B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CBE-A564-4DFC-A8F4-893C7604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374-1CA5-4C97-8182-4FB7E811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73F-C751-401B-9528-CAAFE10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323-F0A6-48CD-A438-A99F0E7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B7B-AD27-4FE0-9B7E-116A5E9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965-F690-415A-9A9A-B6C29A0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C63-6592-4415-9E08-8D78FAF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437B5-E13A-4111-B74C-B628F17270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