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87963"/>
        <c:axId val="56337175"/>
      </c:barChart>
      <c:catAx>
        <c:axId val="62287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37175"/>
        <c:crosses val="autoZero"/>
        <c:auto val="1"/>
        <c:lblAlgn val="ctr"/>
        <c:lblOffset val="100"/>
        <c:noMultiLvlLbl val="0"/>
      </c:catAx>
      <c:valAx>
        <c:axId val="56337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87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13B-98C3-4426-B0CA-E088976E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179-9074-4067-BB90-B5861F30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ADF-B904-4423-A604-AA93D2DD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9C1-5B8C-4E3C-B617-C7FFA778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439-5466-4376-989D-E2840C8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4A5-4802-42AC-82E1-6E9D20CC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DA2-24EE-4CA6-8733-7B89A302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EEF-B4BA-4CFE-A2D7-FEBE15D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928-3337-4CEB-A21E-9989F6CB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496-C8F9-4BA7-B87E-CD68769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691-7F78-4932-AB4C-28CBA11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1C6-3AE6-4C89-A3FB-B08CA30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01533-0A82-46E6-B652-B3C747186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