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63715"/>
        <c:axId val="60775488"/>
      </c:barChart>
      <c:catAx>
        <c:axId val="22263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75488"/>
        <c:crosses val="autoZero"/>
        <c:auto val="1"/>
        <c:lblAlgn val="ctr"/>
        <c:lblOffset val="100"/>
        <c:noMultiLvlLbl val="0"/>
      </c:catAx>
      <c:valAx>
        <c:axId val="60775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63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88F-EF49-427C-995D-DC547459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7D7-1337-4868-81E4-918F45A3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098-DF56-48EC-93E5-B9194905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F56-6CA6-4AF3-97E9-0558ED38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692-E501-49CE-8AE4-89AB5241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C42-1866-4EAD-88F9-186DE1BE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6C6-87D7-4589-B889-6FB3279D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DA5-B894-43AD-98E1-8C8DB7A2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AC4-9441-4BDA-9CEC-9EDE2D50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E7E-5F7B-4C25-8557-8556DFCC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28E-7CAF-4185-912F-8197B4B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1DC-F1F1-4594-9B98-2FA74142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77266-881D-4D36-B758-6677AD9700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