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97379"/>
        <c:axId val="30749630"/>
      </c:barChart>
      <c:catAx>
        <c:axId val="16297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9630"/>
        <c:crosses val="autoZero"/>
        <c:auto val="1"/>
        <c:lblAlgn val="ctr"/>
        <c:lblOffset val="100"/>
        <c:noMultiLvlLbl val="0"/>
      </c:catAx>
      <c:valAx>
        <c:axId val="30749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97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41B-6763-4677-AAC4-C316F764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E9B-09CF-49E0-ACAB-20F3F17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E18-CB41-460A-981D-603807EE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2D5-BEEF-4C5F-AD5A-2EFA7A52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74C-19CA-4F8B-92F4-0B9039B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51D-1392-458B-A9CD-C5FBA87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ECD-08A8-4D38-9A83-0F30E51C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F8F-2DDF-488D-8952-0C041B8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2D0-289C-4C7C-9B05-4643A69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299-E30E-4022-8BC5-AECA984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781-8AD9-455A-9DFC-70E90B0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8BE-6AE2-435D-A848-732765F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2DCD-EC72-4D0C-B89F-D5C4A57C9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