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77017"/>
        <c:axId val="27689551"/>
      </c:barChart>
      <c:catAx>
        <c:axId val="75077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9551"/>
        <c:crosses val="autoZero"/>
        <c:auto val="1"/>
        <c:lblAlgn val="ctr"/>
        <c:lblOffset val="100"/>
        <c:noMultiLvlLbl val="0"/>
      </c:catAx>
      <c:valAx>
        <c:axId val="27689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7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627-72D8-4F20-865A-4B7F3679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C70-9B92-4C1F-9946-7727D8C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B8F-0D23-4D65-B852-B91BD134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486-D3F8-4D8B-A130-5CCF17D3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293-7488-4236-864E-DA492F6D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0C3-63AF-4DA2-A4B9-002923C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A44-4DA9-496F-B1F4-906EAC5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BA1-9A36-4D21-8582-8342BC14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EA7-0467-4F69-9725-78893EB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8C4-B8E4-45F1-A120-D09D23A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271-D360-4F4E-A7A2-A85F334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C4A-86AB-4BE3-9A18-3DBFE9E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699FA-1840-4AE1-8D09-64B81AF50A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